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1C23-69E1-440A-A5D4-95A4C1B3B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AD2C-C20C-4EBE-A93A-C254E9C52E06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D488-4030-42BD-8EC7-F86F67364D10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7CC9-9415-49A3-940B-3B3F4D7DA883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BEBA-B46E-4DDF-8D99-A3F7ADE7C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42C6-044A-465D-B166-16F9FCE8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2B6D-D82E-4328-AA02-754D957AC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784E-BBE0-4898-95F7-2D4717FE4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5C49-F9E1-41DA-B434-AF41DD72C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85C1-7A02-4267-857F-A9EA8EE1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995C-1611-4998-A9F8-57B7D93D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BE54-2C0A-45E8-839F-F6DD6773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9C07-BDDA-44EA-A4C1-D4C6AEEF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622F-5599-4765-B544-2E3AE880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D6EE-2A2E-41E8-B318-81E4D703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7592-FBBB-4E89-AE5A-AC5B7C75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0BAC-DCB7-427A-9E4C-B913CBFA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C946-BA8E-4135-A2E8-211867D5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6D6C-89A9-4AB0-83CE-0835D9E5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1F25-1644-4F9B-9406-AA5AFFAF9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F929-AB91-4B51-A34E-72B367CAE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CE95-4DCB-4A9B-9455-B0A30E6E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2C72-210A-47BE-A562-89856E42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6B21-A48B-4D82-8A5D-75AE83C0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06E5-BAF4-4BDF-9904-3A395278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393E-028E-40E4-A244-1F5D723E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6883-8856-4FA3-A7DC-A105AA11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C328-EEBA-4E8B-8F4B-5AD7C33A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8946-A12A-4337-8C50-F47716494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1E82-CDE5-441B-BA9E-5E9B6A7CC667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Connections between Guided Reading, Text Discussions, and Reading Response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DC423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r. Julie Coiro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15"/>
          <p:cNvGrpSpPr/>
          <p:nvPr/>
        </p:nvGrpSpPr>
        <p:grpSpPr>
          <a:xfrm>
            <a:off x="609480" y="5181480"/>
            <a:ext cx="8305920" cy="1371600"/>
            <a:chOff x="609480" y="5181480"/>
            <a:chExt cx="8305920" cy="1371600"/>
          </a:xfrm>
        </p:grpSpPr>
        <p:sp>
          <p:nvSpPr>
            <p:cNvPr id="114" name="Rectangle 13"/>
            <p:cNvSpPr/>
            <p:nvPr/>
          </p:nvSpPr>
          <p:spPr>
            <a:xfrm>
              <a:off x="609480" y="5181480"/>
              <a:ext cx="8305920" cy="1371600"/>
            </a:xfrm>
            <a:prstGeom prst="rect">
              <a:avLst/>
            </a:prstGeom>
            <a:solidFill>
              <a:srgbClr val="ffd1d1"/>
            </a:solidFill>
            <a:ln w="9360">
              <a:solidFill>
                <a:srgbClr val="33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15" name="TextBox 14"/>
            <p:cNvSpPr/>
            <p:nvPr/>
          </p:nvSpPr>
          <p:spPr>
            <a:xfrm>
              <a:off x="7078680" y="5289480"/>
              <a:ext cx="1608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00"/>
                  </a:solidFill>
                  <a:latin typeface="Arial"/>
                </a:rPr>
                <a:t>Next Book &amp; Book Act 9</a:t>
              </a: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</p:grpSp>
      <p:grpSp>
        <p:nvGrpSpPr>
          <p:cNvPr id="116" name="Group 11"/>
          <p:cNvGrpSpPr/>
          <p:nvPr/>
        </p:nvGrpSpPr>
        <p:grpSpPr>
          <a:xfrm>
            <a:off x="609480" y="4114800"/>
            <a:ext cx="8305920" cy="990720"/>
            <a:chOff x="609480" y="4114800"/>
            <a:chExt cx="8305920" cy="990720"/>
          </a:xfrm>
        </p:grpSpPr>
        <p:sp>
          <p:nvSpPr>
            <p:cNvPr id="117" name="Rectangle 9"/>
            <p:cNvSpPr/>
            <p:nvPr/>
          </p:nvSpPr>
          <p:spPr>
            <a:xfrm>
              <a:off x="609480" y="4114800"/>
              <a:ext cx="8305920" cy="990720"/>
            </a:xfrm>
            <a:prstGeom prst="rect">
              <a:avLst/>
            </a:prstGeom>
            <a:solidFill>
              <a:srgbClr val="ffd1d1"/>
            </a:solidFill>
            <a:ln w="9360">
              <a:solidFill>
                <a:srgbClr val="33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18" name="TextBox 10"/>
            <p:cNvSpPr/>
            <p:nvPr/>
          </p:nvSpPr>
          <p:spPr>
            <a:xfrm>
              <a:off x="6860160" y="4197960"/>
              <a:ext cx="1976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00"/>
                  </a:solidFill>
                  <a:latin typeface="Arial"/>
                </a:rPr>
                <a:t>Hmwk, Next </a:t>
              </a: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00"/>
                  </a:solidFill>
                  <a:latin typeface="Arial"/>
                </a:rPr>
                <a:t>Class, Act #8</a:t>
              </a: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</p:grpSp>
      <p:grpSp>
        <p:nvGrpSpPr>
          <p:cNvPr id="119" name="Group 7"/>
          <p:cNvGrpSpPr/>
          <p:nvPr/>
        </p:nvGrpSpPr>
        <p:grpSpPr>
          <a:xfrm>
            <a:off x="609480" y="1905120"/>
            <a:ext cx="8305920" cy="1676160"/>
            <a:chOff x="609480" y="1905120"/>
            <a:chExt cx="8305920" cy="1676160"/>
          </a:xfrm>
        </p:grpSpPr>
        <p:sp>
          <p:nvSpPr>
            <p:cNvPr id="120" name="Rectangle 5"/>
            <p:cNvSpPr/>
            <p:nvPr/>
          </p:nvSpPr>
          <p:spPr>
            <a:xfrm>
              <a:off x="609480" y="1981080"/>
              <a:ext cx="8305920" cy="1600200"/>
            </a:xfrm>
            <a:prstGeom prst="rect">
              <a:avLst/>
            </a:prstGeom>
            <a:solidFill>
              <a:srgbClr val="ffd1d1"/>
            </a:solidFill>
            <a:ln w="9360">
              <a:solidFill>
                <a:srgbClr val="33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21" name="TextBox 6"/>
            <p:cNvSpPr/>
            <p:nvPr/>
          </p:nvSpPr>
          <p:spPr>
            <a:xfrm>
              <a:off x="7010640" y="1905120"/>
              <a:ext cx="1827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00"/>
                  </a:solidFill>
                  <a:latin typeface="Arial"/>
                </a:rPr>
                <a:t>In class and </a:t>
              </a: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00"/>
                  </a:solidFill>
                  <a:latin typeface="Arial"/>
                </a:rPr>
                <a:t>Activity #7</a:t>
              </a: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Discussing and  Responding to </a:t>
            </a:r>
            <a:br>
              <a:rPr sz="4000"/>
            </a:b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Realistic Fiction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During Reading Instruction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iscussion Webs and Text Talk Queries </a:t>
            </a:r>
            <a:br>
              <a:rPr sz="2800"/>
            </a:b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Guided 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Conversation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Post Reading Instruction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Literature Circles: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a structure for </a:t>
            </a:r>
            <a:br>
              <a:rPr sz="2800"/>
            </a:b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alking about a book with peers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Literature Response Journals: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a </a:t>
            </a:r>
            <a:br>
              <a:rPr sz="2800"/>
            </a:b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pace to freely express personal responses to a book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Coming Up – with our next book…</a:t>
            </a: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Literature Response Journal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Personal meaning-making response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onitoring understand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aking inferenc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aking, validating, or invalidating prediction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Expressing wonder or confus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Character and plot involvemen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haracter interaction or assessment/judgemen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tory Involvemen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Literary evalua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Literary criticism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346640" y="6248520"/>
            <a:ext cx="44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EXTRA: Hancock article (1993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Where do these responses fit into a </a:t>
            </a:r>
            <a:br>
              <a:rPr sz="3600"/>
            </a:b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Metacognitive Reading Framework?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nk-Aloud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efin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Notice/Apply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larify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Refine (small groups)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Let strategy use g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lf-Assessmen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pSp>
        <p:nvGrpSpPr>
          <p:cNvPr id="129" name="Group 10"/>
          <p:cNvGrpSpPr/>
          <p:nvPr/>
        </p:nvGrpSpPr>
        <p:grpSpPr>
          <a:xfrm>
            <a:off x="4724280" y="4373640"/>
            <a:ext cx="3565080" cy="1557000"/>
            <a:chOff x="4724280" y="4373640"/>
            <a:chExt cx="3565080" cy="1557000"/>
          </a:xfrm>
        </p:grpSpPr>
        <p:sp>
          <p:nvSpPr>
            <p:cNvPr id="130" name="Text Box 4"/>
            <p:cNvSpPr/>
            <p:nvPr/>
          </p:nvSpPr>
          <p:spPr>
            <a:xfrm>
              <a:off x="5502600" y="4373640"/>
              <a:ext cx="2786760" cy="1557000"/>
            </a:xfrm>
            <a:prstGeom prst="rect">
              <a:avLst/>
            </a:prstGeom>
            <a:solidFill>
              <a:srgbClr val="ffdc4c"/>
            </a:solidFill>
            <a:ln w="2844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00"/>
                  </a:solidFill>
                  <a:latin typeface="Arial"/>
                </a:rPr>
                <a:t>Discussion Webs;</a:t>
              </a: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00"/>
                  </a:solidFill>
                  <a:latin typeface="Arial"/>
                </a:rPr>
                <a:t>Literature Circles;</a:t>
              </a: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00"/>
                  </a:solidFill>
                  <a:latin typeface="Arial"/>
                </a:rPr>
                <a:t>Literature </a:t>
              </a: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00"/>
                  </a:solidFill>
                  <a:latin typeface="Arial"/>
                </a:rPr>
                <a:t>Response Journals</a:t>
              </a: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grpSp>
          <p:nvGrpSpPr>
            <p:cNvPr id="131" name="Group 7"/>
            <p:cNvGrpSpPr/>
            <p:nvPr/>
          </p:nvGrpSpPr>
          <p:grpSpPr>
            <a:xfrm>
              <a:off x="4724280" y="4800240"/>
              <a:ext cx="1066320" cy="685440"/>
              <a:chOff x="4724280" y="4800240"/>
              <a:chExt cx="1066320" cy="685440"/>
            </a:xfrm>
          </p:grpSpPr>
          <p:sp>
            <p:nvSpPr>
              <p:cNvPr id="132" name="Line 5"/>
              <p:cNvSpPr/>
              <p:nvPr/>
            </p:nvSpPr>
            <p:spPr>
              <a:xfrm>
                <a:off x="4724280" y="5029200"/>
                <a:ext cx="1066320" cy="456480"/>
              </a:xfrm>
              <a:prstGeom prst="line">
                <a:avLst/>
              </a:prstGeom>
              <a:ln w="38160">
                <a:solidFill>
                  <a:srgbClr val="33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0000"/>
                  </a:solidFill>
                  <a:latin typeface="Arial"/>
                </a:endParaRPr>
              </a:p>
            </p:txBody>
          </p:sp>
          <p:sp>
            <p:nvSpPr>
              <p:cNvPr id="133" name="Line 6"/>
              <p:cNvSpPr/>
              <p:nvPr/>
            </p:nvSpPr>
            <p:spPr>
              <a:xfrm flipV="1">
                <a:off x="4725000" y="4800240"/>
                <a:ext cx="959400" cy="228600"/>
              </a:xfrm>
              <a:prstGeom prst="line">
                <a:avLst/>
              </a:prstGeom>
              <a:ln w="38160">
                <a:solidFill>
                  <a:srgbClr val="33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Text Box 8"/>
          <p:cNvSpPr/>
          <p:nvPr/>
        </p:nvSpPr>
        <p:spPr>
          <a:xfrm>
            <a:off x="3750480" y="2971800"/>
            <a:ext cx="4735800" cy="825480"/>
          </a:xfrm>
          <a:prstGeom prst="rect">
            <a:avLst/>
          </a:prstGeom>
          <a:solidFill>
            <a:srgbClr val="ffdc4c"/>
          </a:solidFill>
          <a:ln w="2844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QAR (Four level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ext Talk (Guided Conversations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cxnSp>
        <p:nvCxnSpPr>
          <p:cNvPr id="135" name="Straight Arrow Connector 12"/>
          <p:cNvCxnSpPr/>
          <p:nvPr/>
        </p:nvCxnSpPr>
        <p:spPr>
          <a:xfrm flipV="1">
            <a:off x="4267080" y="3809520"/>
            <a:ext cx="534240" cy="457920"/>
          </a:xfrm>
          <a:prstGeom prst="straightConnector1">
            <a:avLst/>
          </a:prstGeom>
          <a:ln w="38160">
            <a:solidFill>
              <a:srgbClr val="33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mework and Lesson Plan Assignmen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ue Tues. Nov. 9 –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egin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Book Activity 7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BA8 you’ve already done) – Turn in BA7 and 8 on Nov. 9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Read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Hancock Ch 15 (Assessment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lug in ideas for your reading/thinking plan (bring to class on Tuesday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Nov. 9: Writing Objectives and Linking to Standards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this will work best if you have lesson  objectives in mind!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4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ed. Nov. 10 – Reading Plan outline due for feedback</a:t>
            </a:r>
            <a:br>
              <a:rPr sz="2600"/>
            </a:b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So what happens AFTER Guided Reading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Pre-reading: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ctivate knowledge; engage in big ideas; discuss challenging words/concepts; make prediction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During reading: (Guided reading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our levels of questions  -- Model/apply strategie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iscussion Webs  -- Story maps  -- Text talk queri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After reading: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at instructional practices can foster active  engagement, social interaction, meaning making and response?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alking About Books (Ch. 9)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Oral Response Prompts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Grades K-2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What did you notice? How did you feel? What does the story remind you of?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Retelling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framed in elements of story) (K-6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ompare/Contrast Graphic Organizer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Literature Conversation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What is your favorite part? What does it remind you of? Why is this part/character important? (K-3)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Discussing author’s craft, impressions, connections, key points, difficult ideas… (3-6)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ut often children need more structure to get them started &gt;&gt; Literature circle roles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hat are Literature Circles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Optimally, students choose their own reading material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mall temporary groups are formed, based upon book choice.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Kids use written or drawn notes to guide book discussions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roups aim to be open, natural conversations about books (rather than Q&amp;A list to finish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n newly-forming groups, students may rotate through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task role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3962520" y="5715000"/>
            <a:ext cx="685800" cy="533520"/>
          </a:xfrm>
          <a:prstGeom prst="pie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hat are Literature Circles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e teacher serves as a facilitator, not a group member or instructor.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Evaluation is by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teacher observation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student self-evaluation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Optimally, different groups read different books.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 spirit of playfulness and fun pervades the room.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en books are finished, readers share with classmates and new groups from around a different book choice.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2819520" y="3352680"/>
            <a:ext cx="609480" cy="609840"/>
          </a:xfrm>
          <a:prstGeom prst="pie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Exploring Literature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ircle Roles (for Book Activity 8)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iscussion Directo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Literary Luminary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onnecto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haracter Captai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rtful Adventur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Vocabulary Enrich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5715000" y="2895480"/>
            <a:ext cx="1600200" cy="1371600"/>
          </a:xfrm>
          <a:prstGeom prst="pie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 flipH="1">
            <a:off x="5181480" y="449568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hoose roles: 3 groups of 6 student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Picture 2.png"/>
          <p:cNvPicPr/>
          <p:nvPr/>
        </p:nvPicPr>
        <p:blipFill>
          <a:blip r:embed="rId1"/>
          <a:stretch/>
        </p:blipFill>
        <p:spPr>
          <a:xfrm>
            <a:off x="65160" y="1828800"/>
            <a:ext cx="9078840" cy="45338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Literature Circle Rol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Literature Circle Rol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10" name="Picture 6" descr="Picture 3.png"/>
          <p:cNvPicPr/>
          <p:nvPr/>
        </p:nvPicPr>
        <p:blipFill>
          <a:blip r:embed="rId1"/>
          <a:stretch/>
        </p:blipFill>
        <p:spPr>
          <a:xfrm>
            <a:off x="0" y="2514600"/>
            <a:ext cx="9144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Your Reflectio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ased on this “mini” experience, take five minutes to “quick-write” your reactions to the literature circle experience. Jot brief ideas about whatever thoughts, opinions, feelings, and/or questions are on your minds.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23:18:42Z</dcterms:created>
  <dc:creator>Julie Coiro</dc:creator>
  <dc:description/>
  <dc:language>en-US</dc:language>
  <cp:lastModifiedBy>Julie Coiro</cp:lastModifiedBy>
  <cp:lastPrinted>2008-03-06T01:50:51Z</cp:lastPrinted>
  <dcterms:modified xsi:type="dcterms:W3CDTF">2010-11-04T01:29:59Z</dcterms:modified>
  <cp:revision>281</cp:revision>
  <dc:subject/>
  <dc:title>Metacognitive Strategy Instruction to Enhance Reading Comprehension</dc:title>
</cp:coreProperties>
</file>